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9A9-0A91-4B09-B42F-E8B3207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44A-B697-49B0-8B39-85E0948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F74-7495-4C7E-BD48-936C230A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94A-68F1-4DA6-B40C-EFB739E3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4E4-FEEC-4824-BC21-9B948C5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709-8FA3-4DE1-AD61-E562C83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521-369E-48ED-9EE7-D988F93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23D-E096-4083-9018-F77A8C7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F38-209D-415E-A9F3-3FE8638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287-582D-4E12-9719-1F15CA4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EED-FC79-4338-B79D-88FEBE0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141-C547-41FF-9EAC-F564303A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360-22C7-4478-BFC1-52F644255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bject and Predic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MacOS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Arial"/>
              </a:rPr>
              <a:t>A complete sentence has two (2) part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cc"/>
                </a:solidFill>
                <a:latin typeface="Arial"/>
              </a:rPr>
              <a:t>Do you know what these parts are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se 2 sentence parts are called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roadway"/>
              </a:rPr>
              <a:t>Gus and Natali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lay in the band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arley, Tanner and Briann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practice their cheers.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Ethan and B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Arial"/>
              </a:rPr>
              <a:t>work hard at practice.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0866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907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s. Eva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leased with our work today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47:51Z</dcterms:created>
  <dc:creator>Union City Schools</dc:creator>
  <dc:description/>
  <dc:language>en-US</dc:language>
  <cp:lastModifiedBy>Laura McDow</cp:lastModifiedBy>
  <dcterms:modified xsi:type="dcterms:W3CDTF">2010-08-26T00:25:13Z</dcterms:modified>
  <cp:revision>6</cp:revision>
  <dc:subject/>
  <dc:title>    Subject and Predicate</dc:title>
</cp:coreProperties>
</file>